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2.jpeg" ContentType="image/jpe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981-2ABD-4BA1-85DB-67C5D6E9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E5C-491D-431E-AC22-4C04309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E54-C769-48DA-8FD1-5D777FC3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DE0-07F0-44F0-A0BA-D5E7A3D0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0458-B096-4CFF-B019-809D6BD5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B70C-BA18-4FAF-A2AA-B56ECBB7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2C98-1C84-478A-8D79-7D650F54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B869-612C-4740-9954-EC53F712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6EA1-7B92-414E-85F3-0622603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8653-E75F-4C8A-BED0-2330D308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3379-A953-45B3-A94C-92E831D6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0BF-CB33-40FE-ADE8-FB9EC5D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6B49-AD4D-4E25-8B8A-2A23FCE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EEB4-B563-4265-9637-791F9C3C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78F1-8DB2-4521-8762-EE53A7D9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61A2-30D0-4A30-92FD-64902E08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8D1D-CE8D-471E-9F93-678B1C4C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31E-0F3E-4C09-8314-55AC787B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110-E384-424D-BB48-826CB6F3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337-F8CB-4FBB-ABF2-BF50C64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18E-3878-4B5C-BC95-0BC0A065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E99-57D4-4EEF-95BA-A93036B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698-79C2-4422-AD42-9C0A61F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1E5-06E8-42F0-BCFB-3AA91B34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0441-3552-46C8-B699-82D4328300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6897-0AA1-4765-858F-DBB769B19B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hyperlink" Target="http://nsportal.ru/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Подготовка к ЕГ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Задание № 4 и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724360" y="4946760"/>
            <a:ext cx="3421080" cy="1922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0" y="3500280"/>
            <a:ext cx="32097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неправильное построение предложения с косвенной речью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льзя смешивать прямую и косвенную речь. Недопустимо использовать в придаточной части предложения в косвенной речи местоимения «Я, МЫ, ТЫ, ВЫ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пример,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«Дима признался, что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я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сегодня не готов к уроку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9280" y="5491080"/>
            <a:ext cx="14400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арушение видовременной соотнесенности глагольных форм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четание глаголов подчинено логике и здравому смыслу. Например, если по смыслу предложения действия происходят одновременно, то и грамматически они должны стоять в одной временной форме, а другие варианты ошибочны. Примером может служить предложение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«Сергей Есенин посвящает свои стихи «Руси советской» и описал преобразования на селе.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 данном случае для обозначения одновременности использованы два однородных сказуемых, но они стоят в разных формах, что противоречит не только грамматике, но и логике. Правильно будет «посвящает и описывает», а еще лучше в данном случае было бы употребить деепричастный обор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арушение построения сложного предложения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7640" y="836640"/>
            <a:ext cx="9001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ычно имеется в виду неправильное употребление союзов. В сложных предложениях, действительно, иногда используется рядом два союза. Но встречается это нечасто, и каждый случай требует внимательного рассмотрения. В любом случае, так поступают лишь тогда, когда оба союза необходимы. Примером неправильного построения может служить такое предложение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«Он удивился, что насколько люди могут быть непорядочными»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 данном случае один из союзов лишний, правильно было бы «удивился тому, насколько люди бывают непорядочными». Обычно при внимательном прочтении ошибки такого рода бросаются в гл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43964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РФОЭП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анты, бухгалтеров, вероисповедание, диспансер, жалюзи, еретик, иксы, квартал, краны, некролог, ногтя, свекла, сироты, столяр, торты, красивее, кухонный, включит, закупорить, исчерпать, оптовый, осведомиться, плодоносить, черпать, щемит, кровоточить, молящий, завид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1527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ты, бухг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теров, вероиспов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ние, диспанс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, жалюз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ерет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,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сы, кварт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, кр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ы, некрол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, н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тя, св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Ё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, сир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ы, стол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, т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ты, крас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е, к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нный, включ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, зак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рить, исч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пать, опт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й, осв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миться, плодонос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ь, ч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пать, щем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, кровоточ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ь, мол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щий, зав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084720" y="115920"/>
            <a:ext cx="27781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рфоэпия в рифм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ышен в классе диалог: 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суждают каталОг.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тей не нужно баловАть, 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б зубки не пломбировАть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ять такие рифмовки можно хором во время физкультминуток, подбирая различные упражнения на расслабление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ремОта и зевОта уходят за ворота. (потягивание) 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Если прикоснёшься к иве, 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танешь ты ещё красИвей. (наклоны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Социальная сеть работников_x000b_образования </a:t>
            </a: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nsportal.ru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0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ниенко Любовь Владимировн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рганизация орфоэпической работы в начальной школ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067280" y="4451400"/>
            <a:ext cx="4392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3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934920" cy="662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8244000" y="177336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Задание 7 ЕГЭ 2016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еправильное употребление падежной формы существительного с предлог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задании с буквой ищем производные предлоги (обычно предложение начинается с них) и проверяем падеж существительного, стоящего после предлога. Все следующие предлоги сочетаются только с Дательным падежом существительног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огласно (кому? чему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лагодаря  (кому? чему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опреки  (кому? чему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добно  (кому? чему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перекор  (кому? чему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516720" y="4448160"/>
            <a:ext cx="2016000" cy="1133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неправильное употребление падежной формы существительного с предлогом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16856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же в предложении могут быть предлоги, сочетающиеся с существительным в Родительном падеж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меру (чего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течение (чего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продолжение (чего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силу (чего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заключение (чего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виде (чего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 причине (чего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подобие (чего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ример: Благодаря повышения уровня сервиса в фирменных магазинах стало больше покупателей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588000" y="2997360"/>
            <a:ext cx="1422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нарушение связи между подлежащим и сказуемым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щем в заданиях с буквой  конструкцию «все, кто…», «те, кто…», «тот, кто…» и т.д., необходимо проверить согласование подлежащего и сказуемого (ед./мн. число) в главном и в придаточном предложени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       смотрел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на него, н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гл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 замети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.ч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.ч      ед.ч.                           мн.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: Все, кто читал пушкинского «Бориса Годунова», помнит бродягу Варлаа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, кто читали пушкинского «Бориса Годунова», помнят бродягу Варлаа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1040" y="3505320"/>
            <a:ext cx="6692760" cy="623880"/>
          </a:xfrm>
          <a:custGeom>
            <a:avLst/>
            <a:gdLst/>
            <a:ahLst/>
            <a:rect l="l" t="t" r="r" b="b"/>
            <a:pathLst>
              <a:path w="4216" h="393">
                <a:moveTo>
                  <a:pt x="0" y="108"/>
                </a:moveTo>
                <a:cubicBezTo>
                  <a:pt x="55" y="120"/>
                  <a:pt x="80" y="176"/>
                  <a:pt x="132" y="194"/>
                </a:cubicBezTo>
                <a:cubicBezTo>
                  <a:pt x="148" y="216"/>
                  <a:pt x="170" y="237"/>
                  <a:pt x="196" y="246"/>
                </a:cubicBezTo>
                <a:cubicBezTo>
                  <a:pt x="220" y="270"/>
                  <a:pt x="255" y="284"/>
                  <a:pt x="288" y="292"/>
                </a:cubicBezTo>
                <a:cubicBezTo>
                  <a:pt x="322" y="314"/>
                  <a:pt x="358" y="324"/>
                  <a:pt x="397" y="332"/>
                </a:cubicBezTo>
                <a:cubicBezTo>
                  <a:pt x="451" y="370"/>
                  <a:pt x="510" y="352"/>
                  <a:pt x="581" y="355"/>
                </a:cubicBezTo>
                <a:cubicBezTo>
                  <a:pt x="764" y="393"/>
                  <a:pt x="943" y="381"/>
                  <a:pt x="1134" y="384"/>
                </a:cubicBezTo>
                <a:cubicBezTo>
                  <a:pt x="1630" y="371"/>
                  <a:pt x="1826" y="370"/>
                  <a:pt x="2482" y="367"/>
                </a:cubicBezTo>
                <a:cubicBezTo>
                  <a:pt x="2899" y="313"/>
                  <a:pt x="3283" y="341"/>
                  <a:pt x="3726" y="338"/>
                </a:cubicBezTo>
                <a:cubicBezTo>
                  <a:pt x="3749" y="336"/>
                  <a:pt x="3773" y="336"/>
                  <a:pt x="3796" y="332"/>
                </a:cubicBezTo>
                <a:cubicBezTo>
                  <a:pt x="3808" y="330"/>
                  <a:pt x="3818" y="323"/>
                  <a:pt x="3830" y="321"/>
                </a:cubicBezTo>
                <a:cubicBezTo>
                  <a:pt x="3857" y="316"/>
                  <a:pt x="3911" y="309"/>
                  <a:pt x="3911" y="309"/>
                </a:cubicBezTo>
                <a:cubicBezTo>
                  <a:pt x="3955" y="293"/>
                  <a:pt x="4003" y="281"/>
                  <a:pt x="4049" y="269"/>
                </a:cubicBezTo>
                <a:cubicBezTo>
                  <a:pt x="4096" y="235"/>
                  <a:pt x="4074" y="248"/>
                  <a:pt x="4112" y="228"/>
                </a:cubicBezTo>
                <a:cubicBezTo>
                  <a:pt x="4146" y="180"/>
                  <a:pt x="4179" y="136"/>
                  <a:pt x="4199" y="79"/>
                </a:cubicBezTo>
                <a:cubicBezTo>
                  <a:pt x="4204" y="66"/>
                  <a:pt x="4206" y="52"/>
                  <a:pt x="4210" y="38"/>
                </a:cubicBezTo>
                <a:cubicBezTo>
                  <a:pt x="4212" y="29"/>
                  <a:pt x="4216" y="0"/>
                  <a:pt x="4216" y="10"/>
                </a:cubicBezTo>
                <a:cubicBezTo>
                  <a:pt x="4216" y="33"/>
                  <a:pt x="4211" y="71"/>
                  <a:pt x="4193" y="90"/>
                </a:cubicBezTo>
                <a:cubicBezTo>
                  <a:pt x="4182" y="102"/>
                  <a:pt x="4173" y="103"/>
                  <a:pt x="4158" y="108"/>
                </a:cubicBezTo>
                <a:cubicBezTo>
                  <a:pt x="4152" y="110"/>
                  <a:pt x="4136" y="116"/>
                  <a:pt x="4141" y="113"/>
                </a:cubicBezTo>
                <a:cubicBezTo>
                  <a:pt x="4155" y="106"/>
                  <a:pt x="4171" y="96"/>
                  <a:pt x="4187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3645000"/>
            <a:ext cx="241560" cy="191880"/>
          </a:xfrm>
          <a:custGeom>
            <a:avLst/>
            <a:gdLst/>
            <a:ahLst/>
            <a:rect l="l" t="t" r="r" b="b"/>
            <a:pathLst>
              <a:path w="152" h="121">
                <a:moveTo>
                  <a:pt x="54" y="121"/>
                </a:moveTo>
                <a:cubicBezTo>
                  <a:pt x="36" y="93"/>
                  <a:pt x="40" y="73"/>
                  <a:pt x="31" y="41"/>
                </a:cubicBezTo>
                <a:cubicBezTo>
                  <a:pt x="26" y="23"/>
                  <a:pt x="0" y="8"/>
                  <a:pt x="14" y="6"/>
                </a:cubicBezTo>
                <a:cubicBezTo>
                  <a:pt x="60" y="0"/>
                  <a:pt x="106" y="6"/>
                  <a:pt x="152" y="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538440"/>
            <a:ext cx="55440" cy="192240"/>
          </a:xfrm>
          <a:custGeom>
            <a:avLst/>
            <a:gdLst/>
            <a:ahLst/>
            <a:rect l="l" t="t" r="r" b="b"/>
            <a:pathLst>
              <a:path w="35" h="121">
                <a:moveTo>
                  <a:pt x="0" y="0"/>
                </a:moveTo>
                <a:cubicBezTo>
                  <a:pt x="12" y="34"/>
                  <a:pt x="35" y="87"/>
                  <a:pt x="35" y="12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40000" y="3573360"/>
            <a:ext cx="328680" cy="182520"/>
          </a:xfrm>
          <a:custGeom>
            <a:avLst/>
            <a:gdLst/>
            <a:ahLst/>
            <a:rect l="l" t="t" r="r" b="b"/>
            <a:pathLst>
              <a:path w="207" h="115">
                <a:moveTo>
                  <a:pt x="0" y="115"/>
                </a:moveTo>
                <a:cubicBezTo>
                  <a:pt x="29" y="107"/>
                  <a:pt x="18" y="87"/>
                  <a:pt x="34" y="64"/>
                </a:cubicBezTo>
                <a:cubicBezTo>
                  <a:pt x="50" y="40"/>
                  <a:pt x="61" y="29"/>
                  <a:pt x="69" y="0"/>
                </a:cubicBezTo>
                <a:cubicBezTo>
                  <a:pt x="80" y="2"/>
                  <a:pt x="93" y="0"/>
                  <a:pt x="103" y="6"/>
                </a:cubicBezTo>
                <a:cubicBezTo>
                  <a:pt x="117" y="14"/>
                  <a:pt x="125" y="31"/>
                  <a:pt x="138" y="40"/>
                </a:cubicBezTo>
                <a:cubicBezTo>
                  <a:pt x="178" y="68"/>
                  <a:pt x="160" y="57"/>
                  <a:pt x="190" y="75"/>
                </a:cubicBezTo>
                <a:cubicBezTo>
                  <a:pt x="196" y="96"/>
                  <a:pt x="189" y="92"/>
                  <a:pt x="207" y="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59160" y="3554280"/>
            <a:ext cx="1514520" cy="393840"/>
          </a:xfrm>
          <a:custGeom>
            <a:avLst/>
            <a:gdLst/>
            <a:ahLst/>
            <a:rect l="l" t="t" r="r" b="b"/>
            <a:pathLst>
              <a:path w="954" h="248">
                <a:moveTo>
                  <a:pt x="0" y="30"/>
                </a:moveTo>
                <a:cubicBezTo>
                  <a:pt x="8" y="67"/>
                  <a:pt x="24" y="84"/>
                  <a:pt x="47" y="111"/>
                </a:cubicBezTo>
                <a:cubicBezTo>
                  <a:pt x="124" y="201"/>
                  <a:pt x="194" y="215"/>
                  <a:pt x="306" y="238"/>
                </a:cubicBezTo>
                <a:cubicBezTo>
                  <a:pt x="336" y="237"/>
                  <a:pt x="618" y="248"/>
                  <a:pt x="709" y="221"/>
                </a:cubicBezTo>
                <a:cubicBezTo>
                  <a:pt x="739" y="200"/>
                  <a:pt x="780" y="198"/>
                  <a:pt x="807" y="169"/>
                </a:cubicBezTo>
                <a:cubicBezTo>
                  <a:pt x="855" y="118"/>
                  <a:pt x="794" y="186"/>
                  <a:pt x="836" y="128"/>
                </a:cubicBezTo>
                <a:cubicBezTo>
                  <a:pt x="868" y="84"/>
                  <a:pt x="904" y="54"/>
                  <a:pt x="922" y="2"/>
                </a:cubicBezTo>
                <a:cubicBezTo>
                  <a:pt x="938" y="24"/>
                  <a:pt x="934" y="14"/>
                  <a:pt x="939" y="42"/>
                </a:cubicBezTo>
                <a:cubicBezTo>
                  <a:pt x="942" y="55"/>
                  <a:pt x="954" y="104"/>
                  <a:pt x="934" y="59"/>
                </a:cubicBezTo>
                <a:cubicBezTo>
                  <a:pt x="929" y="48"/>
                  <a:pt x="925" y="37"/>
                  <a:pt x="922" y="25"/>
                </a:cubicBezTo>
                <a:cubicBezTo>
                  <a:pt x="920" y="17"/>
                  <a:pt x="918" y="10"/>
                  <a:pt x="916" y="2"/>
                </a:cubicBezTo>
                <a:cubicBezTo>
                  <a:pt x="885" y="11"/>
                  <a:pt x="912" y="0"/>
                  <a:pt x="882" y="25"/>
                </a:cubicBezTo>
                <a:cubicBezTo>
                  <a:pt x="867" y="38"/>
                  <a:pt x="849" y="41"/>
                  <a:pt x="830" y="48"/>
                </a:cubicBezTo>
                <a:cubicBezTo>
                  <a:pt x="813" y="54"/>
                  <a:pt x="803" y="71"/>
                  <a:pt x="784" y="7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нарушение в построении предложения с несогласованным приложением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9280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задании должны быть кавы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ячо любящим родную культуру предстаёт перед нами Д.С. Лихачёв в книг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«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исьмах о добром и прекрасно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яснение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рилож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определение, выраженное существите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ъясне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перед кавычками стоит родовое название (книга, газета, журнал, картина и т.д.), название в кавычках должно стоять в Им.п.   Например,  роман «Евгений Онегин»; картина «Осень»; песня «Дубинушк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перед кавычками нет родового названия, название в кавычках склоняется. Например, в «Евгении Онегине»; в «Осени» Левитана; в «Дубинушк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36360" y="4797360"/>
            <a:ext cx="11206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ошибка в построении предложения с однородными члена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7640" y="907560"/>
            <a:ext cx="90010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в предложении есть однородные члены предложения, соединенные союзом «и», после которых идет общее зависимое слово (слова), необходимо проверить, согласуется ли первый однородный член предложения с эти общим зависимым слов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имер, в предложении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«мы надеялись и верили в победу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ервый однородный член предложения «надеялись» не согласуется с «в победу», поэтому в данном предложении есть грамматическая ошиб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ошибка в построении предложения с однородными член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920" y="1052280"/>
            <a:ext cx="9074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ачестве однородных членов предложения не могут быть использованы слова разных частей ре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имер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«я люблю рисовать и живопис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в предложении однородные члены связаны двойными союзами «не только – но и», «как – так и», «если не – то», необходимо проверить, стоят ли однородные члены предложения непосредственно после этих союзов. Например, в предложении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«Мы ждал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 только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Машу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о и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Ваню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оюзы стоят правильно. Если мы поменяем место одного из них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«Мы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 только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ждали Машу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о и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Ваню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 предложении появится грамматическая ошиб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084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неправильное построение предложения с деепричастным оборотом</a:t>
            </a:r>
            <a:r>
              <a:rPr b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9001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дание начинается с деепричастного обор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Получив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начальное домашнее образование в Москве, Радищева зачислили в петербургский Пажеский корпу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епричастия отвечают на вопросы: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что делая? что сдела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бъяс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деепричастие выражает добавочное действие при основном действии, выраженном глаголом. Лицо, совершающее оба действия, должно быть одно и то же. В предложении действие «зачислили»  совершают «они, какие-то люди» (неопределенно-личное предложение), а действие «получив» совершает Радищ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яснение: деепричастный оборот чаще всего нельзя использовать вместе с безличными предложениями, кроме тех случаев, когда  действие выражено словами «можно, нельз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нарушение в построении предложения с причастным оборотом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920" y="836280"/>
            <a:ext cx="9145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щем в заданиях  причастный обор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астие отвечает на вопросы: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то делающий? что сделавший? что сделанны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ы причастий: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ботающий, сомневающегося, приехавшему, написан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дному из героев романа, ищущим смысл жизни, открывается путь к внутренней свобод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ъясн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Если в предложении есть причастие, его форма (окончание) должна быть согласована с определяемым существительным.  Для этого задаем от определяемого слова вопрос к причастию. Например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было много ребят, (каких?) приехавшИХ в лес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кончание причастия должно совпадать с окончанием вопроса к нему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7T15:53:28Z</dcterms:created>
  <dc:creator>Админ</dc:creator>
  <dc:description/>
  <dc:language>en-US</dc:language>
  <cp:lastModifiedBy>02</cp:lastModifiedBy>
  <dcterms:modified xsi:type="dcterms:W3CDTF">2016-04-20T09:39:14Z</dcterms:modified>
  <cp:revision>2</cp:revision>
  <dc:subject/>
  <dc:title>Задание 7 ЕГЭ 2016</dc:title>
</cp:coreProperties>
</file>